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601200" cy="128016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2C94D9-9A4C-4021-A841-899084CB5CA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9160" y="2995560"/>
            <a:ext cx="863892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9160" y="7407720"/>
            <a:ext cx="863892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C69E86-7C31-4EB2-90F3-EFE11A829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79160" y="299556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06080" y="299556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79160" y="740772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06080" y="740772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BC5FBB-8B2C-4F3E-94BA-5B2DBEAD5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79160" y="2995560"/>
            <a:ext cx="278136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99840" y="2995560"/>
            <a:ext cx="278136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20880" y="2995560"/>
            <a:ext cx="278136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9160" y="7407720"/>
            <a:ext cx="278136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99840" y="7407720"/>
            <a:ext cx="278136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20880" y="7407720"/>
            <a:ext cx="278136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4E0569-4221-4E9A-B342-30276DCCEAA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79160" y="2995560"/>
            <a:ext cx="863892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5F8DA-B6DC-4C69-ADE6-2EEDEBB09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79160" y="2995560"/>
            <a:ext cx="863892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9BBB7E-BACB-4693-AA87-76036A97B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79160" y="2995560"/>
            <a:ext cx="421560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06080" y="2995560"/>
            <a:ext cx="421560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2A7B48-3FA3-4A1C-AEBC-79F7CB5B7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38F7FC-5363-4ED9-BC87-7B40EF395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20720" y="3976560"/>
            <a:ext cx="8159760" cy="1271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F63DB1-044D-4B88-8AC0-7DACCFA53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79160" y="299556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6080" y="2995560"/>
            <a:ext cx="421560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160" y="740772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59BA88-8BBA-4429-B80A-C389B7F87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79160" y="2995560"/>
            <a:ext cx="421560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6080" y="299556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06080" y="740772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82F382-05D2-4C16-828C-9E92AA137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79160" y="299556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06080" y="2995560"/>
            <a:ext cx="421560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9160" y="7407720"/>
            <a:ext cx="8638920" cy="402912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64B357-C08E-46FA-8D09-AEC932E14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601200" cy="12762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20720" y="3976560"/>
            <a:ext cx="8159760" cy="27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80960" y="11864880"/>
            <a:ext cx="2238480" cy="6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2800" spc="-1" strike="noStrike">
                <a:solidFill>
                  <a:srgbClr val="000000"/>
                </a:solidFill>
                <a:latin typeface="Calibri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18/04/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279600" y="11864880"/>
            <a:ext cx="3040200" cy="6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>
          <a:xfrm>
            <a:off x="6881760" y="11864880"/>
            <a:ext cx="2238480" cy="6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2800" spc="-1" strike="noStrike">
                <a:solidFill>
                  <a:srgbClr val="000000"/>
                </a:solidFill>
                <a:latin typeface="Calibri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2C680D-434B-499A-95FD-262FA22BFFFC}" type="slidenum">
              <a:rPr b="0" lang="pt-BR" sz="2800" spc="-1" strike="noStrike">
                <a:solidFill>
                  <a:srgbClr val="000000"/>
                </a:solidFill>
                <a:latin typeface="Calibri"/>
                <a:ea typeface="DejaVu Sans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body"/>
          </p:nvPr>
        </p:nvSpPr>
        <p:spPr>
          <a:xfrm>
            <a:off x="479160" y="2995560"/>
            <a:ext cx="8638920" cy="8447040"/>
          </a:xfrm>
          <a:prstGeom prst="rect">
            <a:avLst/>
          </a:prstGeom>
          <a:noFill/>
          <a:ln w="0">
            <a:noFill/>
          </a:ln>
        </p:spPr>
        <p:txBody>
          <a:bodyPr lIns="0" rIns="0" tIns="1908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287360"/>
            <a:ext cx="9601200" cy="3095640"/>
          </a:xfrm>
          <a:prstGeom prst="rect">
            <a:avLst/>
          </a:prstGeom>
          <a:solidFill>
            <a:srgbClr val="a2dceb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87280" y="1503360"/>
            <a:ext cx="429588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  <a:ea typeface="Verdana"/>
              </a:rPr>
              <a:t>Nome do autor (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  <a:ea typeface="Verdana"/>
              </a:rPr>
              <a:t>Nome da Instituiçã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  <a:ea typeface="Verdana"/>
              </a:rPr>
              <a:t>Conta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3664080"/>
            <a:ext cx="9601200" cy="3240000"/>
          </a:xfrm>
          <a:prstGeom prst="rect">
            <a:avLst/>
          </a:prstGeom>
          <a:solidFill>
            <a:srgbClr val="d2e5bc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87280" y="4672080"/>
            <a:ext cx="897732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Verdana"/>
                <a:ea typeface="Verdana"/>
              </a:rPr>
              <a:t>Introdução do tema da sua apresent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6932520"/>
            <a:ext cx="9594720" cy="3673440"/>
          </a:xfrm>
          <a:prstGeom prst="rect">
            <a:avLst/>
          </a:prstGeom>
          <a:solidFill>
            <a:srgbClr val="bbd1c0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7280" y="7716960"/>
            <a:ext cx="908388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Verdana"/>
                <a:ea typeface="Verdana"/>
              </a:rPr>
              <a:t>Insira aqui o conteúdo da sua apresentaçã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0605960"/>
            <a:ext cx="9594720" cy="2194200"/>
          </a:xfrm>
          <a:prstGeom prst="rect">
            <a:avLst/>
          </a:prstGeom>
          <a:solidFill>
            <a:srgbClr val="a2dceb"/>
          </a:solidFill>
          <a:ln w="25560">
            <a:solidFill>
              <a:srgbClr val="3a5f8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20600" y="10791720"/>
            <a:ext cx="385128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Verdana"/>
                <a:ea typeface="Verdana"/>
              </a:rPr>
              <a:t>Consideraçõ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13320" y="241200"/>
            <a:ext cx="472752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Calibri"/>
              </a:rPr>
              <a:t>INSIRA O TÍTULO DA SUA APRESENT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