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90759272"/>
        <c:axId val="36313527"/>
        <c:axId val="0"/>
      </c:bar3DChart>
      <c:catAx>
        <c:axId val="90759272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313527"/>
        <c:crosses val="autoZero"/>
        <c:auto val="1"/>
        <c:lblAlgn val="ctr"/>
        <c:lblOffset val="100"/>
        <c:noMultiLvlLbl val="0"/>
      </c:catAx>
      <c:valAx>
        <c:axId val="36313527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759272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2B5B-FF5D-4FF0-AA25-7E2B23E36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EAC2-0C42-400B-9ABC-F7FFE9A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7078-404D-4423-8D73-74BB82D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0708-19C4-470F-8997-D5123A235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1F51-1488-48C1-8EBD-4F80FA1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8BD0-CC05-4AC6-A68F-27831828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A6A2-1992-48F5-82F3-A2349F23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9794-AFF3-4C63-9EAD-B99720A4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A50E-45C7-43A0-8391-03200650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B092-D522-458A-A505-E6B86CB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08CC7-6261-4EC6-AAEB-788058F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6EC5-6748-4F32-8D9A-6C5C5D5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15739-734E-4467-8A8B-B14C3F59AB95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