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38599008"/>
        <c:axId val="80209731"/>
        <c:axId val="0"/>
      </c:bar3DChart>
      <c:catAx>
        <c:axId val="38599008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209731"/>
        <c:crosses val="autoZero"/>
        <c:auto val="1"/>
        <c:lblAlgn val="ctr"/>
        <c:lblOffset val="100"/>
        <c:noMultiLvlLbl val="0"/>
      </c:catAx>
      <c:valAx>
        <c:axId val="80209731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599008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E960-52F8-4A86-93D4-8DD34F8EB7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198E-34BB-4B9A-B1E0-0DFD7B84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EEC9-987B-4900-8C3C-5B11787C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EBA2-843C-46E1-8335-6745750CB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81DF-C110-4B52-97D6-F404B59A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E2B3-1A00-40C3-98E5-7AD9058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7892-8EDF-4F2F-898F-C4D16070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C96C-D7F0-4B43-9EA9-198B75F5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14D5-3CD1-499D-9291-FEBC2BE5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F0DC-B6D6-4A52-9981-E9E55BA6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B8A9F-1DD6-4182-8A0D-F9195477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6D09-AB67-43A5-AF68-814AD28C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9658E-6C22-45C6-9796-19D88EF1918F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