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A5B25-AB16-425B-BEFD-50716E7549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C5D82-ADB2-4B19-B2F6-8674D909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DBD0C-ABD9-429D-845F-FF7AF243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984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088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916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984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088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3B12A-9139-4EF0-8881-275D47CBA0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F72DA-09B2-44C0-8691-D58F73A2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BEEF2-216A-4EB6-8A3B-FFC00037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D81F2-520C-4FF9-BF77-66816435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6041B-4F96-4D34-AF95-556F15A0A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0720" y="3976560"/>
            <a:ext cx="8159760" cy="1271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7BB0D-DC95-42DC-89DA-8A530A6F3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30E92-B09F-42B3-9144-8FC71F43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9BCAE-B1E7-44B7-BD5B-B3580DFC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11041-415E-4299-9F75-B3624D37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01200" cy="1276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809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18/04/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79600" y="11864880"/>
            <a:ext cx="304020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8817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2F5F4-9E2F-4E9D-BF00-997C38B413BE}" type="slidenum"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287360"/>
            <a:ext cx="9601200" cy="309564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7280" y="1503360"/>
            <a:ext cx="42958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Nome do autor (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Nome da Institui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Cont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664080"/>
            <a:ext cx="9601200" cy="3240000"/>
          </a:xfrm>
          <a:prstGeom prst="rect">
            <a:avLst/>
          </a:prstGeom>
          <a:solidFill>
            <a:srgbClr val="d2e5bc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4672080"/>
            <a:ext cx="89773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Introdução do tema da sua apresent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932520"/>
            <a:ext cx="9594720" cy="3673440"/>
          </a:xfrm>
          <a:prstGeom prst="rect">
            <a:avLst/>
          </a:prstGeom>
          <a:solidFill>
            <a:srgbClr val="bbd1c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7280" y="7716960"/>
            <a:ext cx="90838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Insira aqui o conteúdo da sua apresent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0605960"/>
            <a:ext cx="9594720" cy="219420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0600" y="10791720"/>
            <a:ext cx="38512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Consideraçõ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13320" y="241200"/>
            <a:ext cx="47275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INSIRA O TÍTULO DA SUA APRES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