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51141993"/>
        <c:axId val="9552527"/>
        <c:axId val="0"/>
      </c:bar3DChart>
      <c:catAx>
        <c:axId val="51141993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52527"/>
        <c:crosses val="autoZero"/>
        <c:auto val="1"/>
        <c:lblAlgn val="ctr"/>
        <c:lblOffset val="100"/>
        <c:noMultiLvlLbl val="0"/>
      </c:catAx>
      <c:valAx>
        <c:axId val="9552527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141993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354A-0FC5-4761-9B76-84ACC5AEF9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B993-9720-43FC-80B5-216BBD75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E6EF-685A-4D80-B311-1D016D8F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40EF-BA0B-404A-93D8-6DEA94E933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D5B4-D105-491D-A49A-5B8F558E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D0DB-BBA2-450C-BBAE-5B19010D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E1A1-7426-4DA6-B785-4E1B671A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E30D-6939-4D74-AA76-10137E86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756E-9BF3-4280-B575-A3BEF83A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8094-0135-4A4E-AC6F-7647A92B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5E45-2428-4D9A-9A1B-6ECB184F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23B6-FF39-469A-B345-7E64967E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795C8-73D3-452D-9386-23C3124C13CE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