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22602419"/>
        <c:axId val="60915798"/>
        <c:axId val="0"/>
      </c:bar3DChart>
      <c:catAx>
        <c:axId val="22602419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915798"/>
        <c:crosses val="autoZero"/>
        <c:auto val="1"/>
        <c:lblAlgn val="ctr"/>
        <c:lblOffset val="100"/>
        <c:noMultiLvlLbl val="0"/>
      </c:catAx>
      <c:valAx>
        <c:axId val="60915798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602419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B1C1-907B-46E4-A294-BEB109A6F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5A3D-F0E9-49EB-902E-2305331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AE48-2433-416A-A494-CECE2DB1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E4EB-D670-4381-8CF4-0DEDC84A5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3F26-759B-4A1C-81E9-C27BB070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E017-DEB1-49A2-8C2A-563042A2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586F-251E-4007-B067-9F79B45E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3355-6207-486A-BB98-0FA88231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D83A-1413-41A2-8593-5DCD5E16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F8F4-12E8-4F83-BC2C-069D735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A0CF-48B7-4090-A267-C28E12B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07FB-5242-418E-8DB5-E30E2F4B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106F6-F339-4CF8-B865-CE9EBFA1172C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