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6"/>
      <c:rotY val="19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0">
          <a:noFill/>
        </a:ln>
      </c:spPr>
    </c:sideWall>
    <c:backWall>
      <c:spPr>
        <a:noFill/>
        <a:ln w="0">
          <a:noFill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Série 2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érie 3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3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General" sourceLinked="1"/>
            <c:txPr>
              <a:bodyPr wrap="non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ia 1</c:v>
                </c:pt>
                <c:pt idx="1">
                  <c:v>Categoria 2</c:v>
                </c:pt>
                <c:pt idx="2">
                  <c:v>Categoria 3</c:v>
                </c:pt>
                <c:pt idx="3">
                  <c:v>Categoria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75"/>
        <c:shape val="box"/>
        <c:axId val="57377574"/>
        <c:axId val="67609880"/>
        <c:axId val="0"/>
      </c:bar3DChart>
      <c:catAx>
        <c:axId val="57377574"/>
        <c:scaling>
          <c:orientation val="minMax"/>
        </c:scaling>
        <c:delete val="0"/>
        <c:axPos val="b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7609880"/>
        <c:crosses val="autoZero"/>
        <c:auto val="1"/>
        <c:lblAlgn val="ctr"/>
        <c:lblOffset val="100"/>
        <c:noMultiLvlLbl val="0"/>
      </c:catAx>
      <c:valAx>
        <c:axId val="67609880"/>
        <c:scaling>
          <c:orientation val="minMax"/>
        </c:scaling>
        <c:delete val="0"/>
        <c:axPos val="l"/>
        <c:numFmt formatCode="General" sourceLinked="1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377574"/>
        <c:crosses val="autoZero"/>
        <c:crossBetween val="between"/>
      </c:valAx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solidFill>
      <a:srgbClr val="ffffff"/>
    </a:solidFill>
    <a:ln w="9360">
      <a:solidFill>
        <a:srgbClr val="878787"/>
      </a:solidFill>
      <a:round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BF7CD-F7DF-4E4C-A63E-F46A00988F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19683-1474-40DA-B26C-24495664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20D8-07A2-4FB1-ADAC-DB18DD62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167C-7A46-4329-953E-5481EF9C96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9B1C8-82DC-4772-ABE8-9B017A7C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AD706-D21B-4663-83A5-A4C8952C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6BDD2-BA0B-4AE5-8F84-8CDAD98E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5D58-BB49-411C-A7D3-5337F475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80C2-0229-4AF5-80B3-D58982F9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666F2-14A5-4D44-8C31-18A92372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FFC53-6CDC-4F70-89D1-BB55A59A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5AF10-3546-421D-BBC1-3385C752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0678F-3721-4786-90A1-025B5C69B72B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.carvalho@ufrj.com.br" TargetMode="External"/><Relationship Id="rId2" Type="http://schemas.openxmlformats.org/officeDocument/2006/relationships/hyperlink" Target="mailto:r.santos@ufrj.com.br" TargetMode="External"/><Relationship Id="rId3" Type="http://schemas.openxmlformats.org/officeDocument/2006/relationships/image" Target="../media/image2.png"/><Relationship Id="rId4" Type="http://schemas.openxmlformats.org/officeDocument/2006/relationships/chart" Target="../charts/chart1.xm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83720" y="1638360"/>
            <a:ext cx="375912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1503360"/>
            <a:ext cx="429588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presen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Instit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4672080"/>
            <a:ext cx="89773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21320" y="7192800"/>
            <a:ext cx="3851280" cy="40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SPECTOS RELEV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A SEREM DISCUTI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EM TÓPIC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0504440"/>
            <a:ext cx="5303880" cy="229572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2240" y="1063944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1360" y="7145280"/>
            <a:ext cx="37591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Neste espaço você poderá inse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FO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GRÁ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Você pode ajustar sua fo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Clicando 2x nela e selecion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a opção ”corta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13320" y="241200"/>
            <a:ext cx="472752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TÍTULO D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472752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9320" y="1287360"/>
            <a:ext cx="4871880" cy="3095640"/>
          </a:xfrm>
          <a:prstGeom prst="rect">
            <a:avLst/>
          </a:prstGeom>
          <a:noFill/>
          <a:ln w="93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430280"/>
            <a:ext cx="429588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João Carvalho D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1"/>
              </a:rPr>
              <a:t>j.carvalho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(21) 9499-7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Rosana Santos</a:t>
            </a:r>
            <a:br>
              <a:rPr sz="2000"/>
            </a:br>
            <a:r>
              <a:rPr b="0" lang="pt-BR" sz="2000" spc="-1" strike="noStrike" u="sng">
                <a:solidFill>
                  <a:srgbClr val="ccccff"/>
                </a:solidFill>
                <a:uFillTx/>
                <a:latin typeface="Verdana"/>
                <a:ea typeface="Verdana"/>
                <a:hlinkClick r:id="rId2"/>
              </a:rPr>
              <a:t>r.santos@ufrj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  <a:ea typeface="Verdana"/>
              </a:rPr>
              <a:t>Universidade Federal do Rio de Jan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4384800"/>
            <a:ext cx="9601200" cy="251928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7280" y="4964040"/>
            <a:ext cx="8977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  <a:ea typeface="Verdana"/>
              </a:rPr>
              <a:t>O envelhecimento é um processo natural do organismo, sendo este progressivo e não reversível. Durante este processo ocorrem alterações em todas as partes do organismo e estas devem ser acompanhadas para que sejam evitados danos à saú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03880" y="6904080"/>
            <a:ext cx="4295880" cy="589608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4960" y="6977160"/>
            <a:ext cx="38512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Uma das alterações deste processo é o aumento da massa gorda e diminuição da massa muscular (água, tecido ósseo e tecido muscular). Esta alteração é resultado de uma série de fatores como: diminuição de atividade física, hábitos alimentares inadequados, diminuição da água corporal, entre outros fat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É comum alteração no paladar, devido à diminuição das papilas gustativas que permitem sentir os sabores (doce, amargo, ácido e amargo). Além disso, pode ocorrer alteração na dentição que em praticamente todos a mastigação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A alimentação deve ser variada e adaptada a esta fase, para realçar o sabor dos alimentos e torná-los mais fáceis de serem mastigados e deglutidos, mantendo o equilíbrio na oferta de nutrientes. </a:t>
            </a:r>
            <a:br>
              <a:rPr sz="1400"/>
            </a:br>
            <a:br>
              <a:rPr sz="1400"/>
            </a:b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s </a:t>
            </a: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lipídios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 (gorduras), possuem um papel importante já que auxiliam na absorção de vitaminas lipossolúveis. Gorduras chamadas poliinsaturadas e monoinsaturadas, nas quantidades adequadas, devem compor parte da alimentação já que auxiliam na prevenção de doenças cardiovascula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369520"/>
            <a:ext cx="5303880" cy="143208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2240" y="11504520"/>
            <a:ext cx="3851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  <a:ea typeface="Verdana"/>
              </a:rPr>
              <a:t>Observaçõ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  <a:ea typeface="Verdana"/>
              </a:rPr>
              <a:t>ALIMENTAÇÃO SAUDÁVEL NA TERCEIRA 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683240" y="1276200"/>
            <a:ext cx="4916520" cy="30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0" y="6688080"/>
          <a:ext cx="5292720" cy="4464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66" name=""/>
          <p:cNvSpPr/>
          <p:nvPr/>
        </p:nvSpPr>
        <p:spPr>
          <a:xfrm>
            <a:off x="263520" y="11855520"/>
            <a:ext cx="489600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O acompanhamento nutricional torna-se necessário para identificar erros e deficiências alimentares a tempo de corrigi-las sem causar danos à saú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