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843A0-46EE-458F-8FD7-F2F0788CAD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46A31-6605-4AD5-BCE3-7236DD37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D5C7A-D5FB-4696-817F-FFF33683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984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088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916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984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088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92215-74C5-48D4-8523-4141B7976C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B8439-8A53-4F29-B639-0E205565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A219D-2EF2-467A-B9D6-BDC0A730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8DE58-6E38-4939-885E-A4D7D9EC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FDF8E-C338-40AF-A8C7-1964A8B01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0720" y="3976560"/>
            <a:ext cx="8159760" cy="1271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ECDA9-1E72-41A8-A3C7-CED9B8FAF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EBCEE-293B-4A85-82B1-3600C015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036F3-1611-4C0B-803D-2422A3BE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BD5A7-5017-4784-9692-7BDCC6B6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01200" cy="1276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809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18/04/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79600" y="11864880"/>
            <a:ext cx="304020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8817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C51777-0383-43FB-84AA-C74DE4BFB014}" type="slidenum"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287360"/>
            <a:ext cx="9601200" cy="309564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7280" y="1503360"/>
            <a:ext cx="42958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Nome do autor (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Nome da Institui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Cont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664080"/>
            <a:ext cx="9601200" cy="3240000"/>
          </a:xfrm>
          <a:prstGeom prst="rect">
            <a:avLst/>
          </a:prstGeom>
          <a:solidFill>
            <a:srgbClr val="d2e5bc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4672080"/>
            <a:ext cx="89773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Introdução do tema da sua apresent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932520"/>
            <a:ext cx="9594720" cy="3673440"/>
          </a:xfrm>
          <a:prstGeom prst="rect">
            <a:avLst/>
          </a:prstGeom>
          <a:solidFill>
            <a:srgbClr val="bbd1c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7280" y="7716960"/>
            <a:ext cx="90838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Insira aqui o conteúdo da sua apresent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0605960"/>
            <a:ext cx="9594720" cy="219420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0600" y="10791720"/>
            <a:ext cx="38512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Consideraçõ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13320" y="241200"/>
            <a:ext cx="47275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INSIRA O TÍTULO DA SUA APRES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