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14305723"/>
        <c:axId val="97222257"/>
        <c:axId val="0"/>
      </c:bar3DChart>
      <c:catAx>
        <c:axId val="14305723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7222257"/>
        <c:crosses val="autoZero"/>
        <c:auto val="1"/>
        <c:lblAlgn val="ctr"/>
        <c:lblOffset val="100"/>
        <c:noMultiLvlLbl val="0"/>
      </c:catAx>
      <c:valAx>
        <c:axId val="97222257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305723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42D33-1844-4590-ACE7-392068827D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748A9-C4D5-43AA-87A6-FB21CC2E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F0BFE-5758-4CE2-B658-2F5A78C8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9E5D4-925E-43DD-A171-90E8D468A8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A9D1-88F3-47A8-9A5D-26544915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ECEF9-931A-42CC-AFF7-8975CB17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9E43-6285-4D95-BAF5-E0948636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F93A-2ACD-4599-97DC-6943A59A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91A5-A08A-4296-A3E8-92297A87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2F563-DA05-41D1-BDA7-9E601CC6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49B3B-AC53-4123-96DF-980DF60D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DDF69-410B-4A48-B927-58368F96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A9749-4A39-48A8-B16A-CF91929F18BF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