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43150018"/>
        <c:axId val="77534529"/>
        <c:axId val="0"/>
      </c:bar3DChart>
      <c:catAx>
        <c:axId val="43150018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534529"/>
        <c:crosses val="autoZero"/>
        <c:auto val="1"/>
        <c:lblAlgn val="ctr"/>
        <c:lblOffset val="100"/>
        <c:noMultiLvlLbl val="0"/>
      </c:catAx>
      <c:valAx>
        <c:axId val="77534529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150018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A211-4D0A-4F23-AA5B-A801D79E3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6AA9-A003-43F2-8FAC-422A8A2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325D-8805-40CD-9934-8EC234E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05D7-D897-4876-B62F-2B9327151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1CD9-2251-455A-9491-D946CC82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CA21-BF1A-4801-843A-280E2484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C518-DE7C-451E-94D4-713E304B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5732-09DE-4028-A14B-9450D874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29E3-9581-4951-8991-FD03C6CE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2991-1DDF-4CEE-BF48-1C74F063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06CD-DF61-441C-A857-42693727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F7153-1579-4134-9187-3BF65B8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04C79-6053-46A2-8981-80BFEBF47D27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