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33301402"/>
        <c:axId val="40361958"/>
        <c:axId val="0"/>
      </c:bar3DChart>
      <c:catAx>
        <c:axId val="33301402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361958"/>
        <c:crosses val="autoZero"/>
        <c:auto val="1"/>
        <c:lblAlgn val="ctr"/>
        <c:lblOffset val="100"/>
        <c:noMultiLvlLbl val="0"/>
      </c:catAx>
      <c:valAx>
        <c:axId val="40361958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301402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D42D-1A7D-4BB9-8658-7450A46E0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A807-E4C9-4692-B8E6-35D8D597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AEB8-80B0-4B6E-AC34-4B8FDC9E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CF515-11C2-445C-9C7E-67DEABD804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CDA1-2B00-4C56-B021-6720CCC4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C098-843F-4A8A-8501-4C4BC575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BFBA-A9EA-420E-9BC0-77042960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949A-DFF9-4C95-A95A-D0BCE069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5409-28AC-41FC-BF04-97AACF10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3FC6-9F69-49D3-8510-AB9D44A0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462F-1EE2-457A-9F4D-F66D1F58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B045-DE64-4F4C-8889-17D2592A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2BA0C-763E-42BC-A565-76FD006C58E4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