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6"/>
      <c:rotY val="19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0">
          <a:noFill/>
        </a:ln>
      </c:spPr>
    </c:sideWall>
    <c:backWall>
      <c:spPr>
        <a:noFill/>
        <a:ln w="0">
          <a:noFill/>
        </a:ln>
      </c:spPr>
    </c:backWall>
    <c:plotArea>
      <c:bar3DChart>
        <c:barDir val="col"/>
        <c:grouping val="stacked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Série 2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érie 3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3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75"/>
        <c:shape val="box"/>
        <c:axId val="20401591"/>
        <c:axId val="11204963"/>
        <c:axId val="0"/>
      </c:bar3DChart>
      <c:catAx>
        <c:axId val="20401591"/>
        <c:scaling>
          <c:orientation val="minMax"/>
        </c:scaling>
        <c:delete val="0"/>
        <c:axPos val="b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1204963"/>
        <c:crosses val="autoZero"/>
        <c:auto val="1"/>
        <c:lblAlgn val="ctr"/>
        <c:lblOffset val="100"/>
        <c:noMultiLvlLbl val="0"/>
      </c:catAx>
      <c:valAx>
        <c:axId val="11204963"/>
        <c:scaling>
          <c:orientation val="minMax"/>
        </c:scaling>
        <c:delete val="0"/>
        <c:axPos val="l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0401591"/>
        <c:crosses val="autoZero"/>
        <c:crossBetween val="between"/>
      </c:valAx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solidFill>
      <a:srgbClr val="ffffff"/>
    </a:solidFill>
    <a:ln w="9360">
      <a:solidFill>
        <a:srgbClr val="878787"/>
      </a:solidFill>
      <a:round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CABDE-4641-48E4-B7B7-A4C4218101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3876F-46F9-4932-B673-6504D154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7BC16-B21E-4C4B-80B1-FD850290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AFCE2-BE4F-4E4A-B93A-243EF52CAD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402E6-950F-49BF-A1F2-D32D57A4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AD88E-E771-4019-AA1E-1BE744D2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B2CE2-0DB4-49C7-B582-281B2DD9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FE8B6-4745-413D-97BD-C8C85C1B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E96A0-5773-4FF9-9E50-72164BE4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33375-0C5D-427A-A187-309CD2A4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94436-C4D6-40DB-AE11-E411F767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79EBC-57D1-4B77-A2D6-04D7ED90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833A0-2A59-4384-9D0C-1C9812D5BC1B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.carvalho@ufrj.com.br" TargetMode="External"/><Relationship Id="rId2" Type="http://schemas.openxmlformats.org/officeDocument/2006/relationships/hyperlink" Target="mailto:r.santos@ufrj.com.br" TargetMode="External"/><Relationship Id="rId3" Type="http://schemas.openxmlformats.org/officeDocument/2006/relationships/image" Target="../media/image2.png"/><Relationship Id="rId4" Type="http://schemas.openxmlformats.org/officeDocument/2006/relationships/chart" Target="../charts/chart1.xm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83720" y="1638360"/>
            <a:ext cx="375912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503360"/>
            <a:ext cx="429588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presen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Instit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4672080"/>
            <a:ext cx="8977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21320" y="7192800"/>
            <a:ext cx="385128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 SEREM DISCUTI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EM TÓPIC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504440"/>
            <a:ext cx="5303880" cy="229572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2240" y="1063944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1360" y="7145280"/>
            <a:ext cx="37591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13320" y="241200"/>
            <a:ext cx="4727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TÍTULO D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1430280"/>
            <a:ext cx="429588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João Carvalho D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1"/>
              </a:rPr>
              <a:t>j.carvalho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21) 9499-75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Rosana Santos</a:t>
            </a:r>
            <a:br>
              <a:rPr sz="2000"/>
            </a:b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2"/>
              </a:rPr>
              <a:t>r.santos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Universidade Federal do Rio de Jan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7280" y="4964040"/>
            <a:ext cx="8977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  <a:ea typeface="Verdana"/>
              </a:rPr>
              <a:t>O envelhecimento é um processo natural do organismo, sendo este progressivo e não reversível. Durante este processo ocorrem alterações em todas as partes do organismo e estas devem ser acompanhadas para que sejam evitados danos à saú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4960" y="6977160"/>
            <a:ext cx="385128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Uma das alterações deste processo é o aumento da massa gorda e diminuição da massa muscular (água, tecido ósseo e tecido muscular). Esta alteração é resultado de uma série de fatores como: diminuição de atividade física, hábitos alimentares inadequados, diminuição da água corporal, entre outros fat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É comum alteração no paladar, devido à diminuição das papilas gustativas que permitem sentir os sabores (doce, amargo, ácido e amargo). Além disso, pode ocorrer alteração na dentição que em praticamente todos a mastigação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 alimentação deve ser variada e adaptada a esta fase, para realçar o sabor dos alimentos e torná-los mais fáceis de serem mastigados e deglutidos, mantendo o equilíbrio na oferta de nutrientes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s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lipídios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(gorduras), possuem um papel importante já que auxiliam na absorção de vitaminas lipossolúveis. Gorduras chamadas poliinsaturadas e monoinsaturadas, nas quantidades adequadas, devem compor parte da alimentação já que auxiliam na prevenção de doenças cardiovascula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369520"/>
            <a:ext cx="5303880" cy="143208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" y="1150452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Observ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ALIMENTAÇÃO SAUDÁVEL NA TERCEIRA 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83240" y="1276200"/>
            <a:ext cx="4916520" cy="30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0" y="6688080"/>
          <a:ext cx="5292720" cy="446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66" name=""/>
          <p:cNvSpPr/>
          <p:nvPr/>
        </p:nvSpPr>
        <p:spPr>
          <a:xfrm>
            <a:off x="263520" y="11855520"/>
            <a:ext cx="489600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companhamento nutricional torna-se necessário para identificar erros e deficiências alimentares a tempo de corrigi-las sem causar danos à saúd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