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11180613"/>
        <c:axId val="4023527"/>
        <c:axId val="0"/>
      </c:bar3DChart>
      <c:catAx>
        <c:axId val="11180613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23527"/>
        <c:crosses val="autoZero"/>
        <c:auto val="1"/>
        <c:lblAlgn val="ctr"/>
        <c:lblOffset val="100"/>
        <c:noMultiLvlLbl val="0"/>
      </c:catAx>
      <c:valAx>
        <c:axId val="4023527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180613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86AD-7CB6-4F38-AB03-FD40C0E9ED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4876-98F2-4601-9EAE-B34EC15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693F-2B44-48D6-B969-0A0EE975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0B3E-C5FE-40D7-96EA-D0C1EBB76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9F7D-BED3-4E4C-A18E-37940D5C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BE51-316F-4B52-84E3-5CBF0BC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8EA0-D91C-4075-8DDA-8944D2D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52DA-4888-42AE-B001-8BC116BC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929C-DADE-4E2D-BD62-694C5DB6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7DC4-0B9E-47AE-8184-6731E40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A4AD-FF14-4464-BC09-CF72C6E5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428D-5680-48D1-87C5-8F7E0AF4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B3B4-9B6A-4663-9D6C-5FF883AD7CDC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