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BA941-3B5C-4E9A-A290-2909CFE017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CFCB3-EEB0-4F90-B55A-829F3BB8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D1AC2-5FAF-4BCC-93D4-F5BB47E8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EA480-B19A-4EE0-A7BC-24CD7968D6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82F71-E6DF-4988-9401-1486B0B3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4F9D2-4DCE-4CDE-8B4E-2D49F94A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4AC5D-BB76-48D4-9ECB-B9125710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5EAC0-BF2A-4C69-95DC-B1FFA8A8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A99B-FF29-4947-BE5A-1E13B2B2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AB3E3-012E-4FA3-921F-8345A5BA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BBFB1-5EA1-466D-AD2A-7FE72E8A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3E53D-8AC1-4AA0-AFDF-DED8F15C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1ECC2-5912-4E89-AB63-830FB7F22655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960120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7280" y="1503360"/>
            <a:ext cx="4295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o autor (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a Institu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664080"/>
            <a:ext cx="9601200" cy="324000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4672080"/>
            <a:ext cx="8977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trodução do tema da su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932520"/>
            <a:ext cx="9594720" cy="367344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7716960"/>
            <a:ext cx="9083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sira aqui o conteúdo da sua apresent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05960"/>
            <a:ext cx="9594720" cy="219420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600" y="10791720"/>
            <a:ext cx="3851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INSIRA O TÍTULO DA SU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