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9764743"/>
        <c:axId val="39789409"/>
        <c:axId val="0"/>
      </c:bar3DChart>
      <c:catAx>
        <c:axId val="9764743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789409"/>
        <c:crosses val="autoZero"/>
        <c:auto val="1"/>
        <c:lblAlgn val="ctr"/>
        <c:lblOffset val="100"/>
        <c:noMultiLvlLbl val="0"/>
      </c:catAx>
      <c:valAx>
        <c:axId val="39789409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64743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804A-A8D5-4631-A31C-121FC6283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EFCF-FD77-4871-88DB-60965E39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4550-F95F-49C1-9694-E3DC695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4665-8832-44B1-A2D9-65949B0C8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B207-BDF8-46FA-B9D1-769626D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3A93-7019-44AB-B460-6E2B10B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0D6C-A9AE-4A05-8F21-E007AF6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E71E-C981-47DE-BBBB-1FDECC6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3CC4-F638-4212-93A2-DA5B3A0B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3063-D7DB-4DE6-86A2-A823957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9BD8-239B-4938-9FC1-CBF7FB3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EC9C-DC80-43EF-B91F-9DB7F6CE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2540-0012-40D3-95C1-199158926AD9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