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94895354"/>
        <c:axId val="94592612"/>
        <c:axId val="0"/>
      </c:bar3DChart>
      <c:catAx>
        <c:axId val="94895354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592612"/>
        <c:crosses val="autoZero"/>
        <c:auto val="1"/>
        <c:lblAlgn val="ctr"/>
        <c:lblOffset val="100"/>
        <c:noMultiLvlLbl val="0"/>
      </c:catAx>
      <c:valAx>
        <c:axId val="94592612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895354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4471-764F-48E4-9B60-E7630C1CA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E80E-8A8C-4342-9817-3C93CC17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DA64-F024-45CC-A00E-D00C015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2B74-2557-46F4-B93C-FEF229025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917B-F9BC-4346-AC7C-0E55B15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A7AB-263B-432F-8484-C7819F6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9D3B-DC99-475A-BCB2-1C647DA1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2FA7-8A23-442B-9139-8B0C5802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78E1-A986-41BD-BBB3-B0BE4CE9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F751-0A0A-4E21-890D-BDF3682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BF1C0-739A-44D9-A8CE-32C47B87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089BA-4776-46D4-9E78-AC336A8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3C2DA-96E5-4FB7-A823-4150B9360B6E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