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60F2A-6B3F-4E24-B0FE-290D4F1AB5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3062-754A-48B3-AB05-02173461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0C79-2006-47AC-8242-C8D30E53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F9DE-912D-4A5A-9CEE-639ACD5D73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79A9D-5B74-47FC-B605-1E28F641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421FE-12EE-4768-A2FA-B686AC12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7F05A-FD49-4615-A869-791E1678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24FA3-F122-49F3-AF22-0919242D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B5430-B2F0-496A-AA79-096F8F5B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27958-E955-4B1D-A9DD-80E4DA7B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576CF-F195-4832-9409-EF3028B9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0E1B5-1A12-44E4-A856-7B2C0742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19699-0746-4B99-B90A-0101B664E3B9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960120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280" y="1503360"/>
            <a:ext cx="429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o autor 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a Instit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664080"/>
            <a:ext cx="9601200" cy="324000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4672080"/>
            <a:ext cx="8977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 do tema da su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932520"/>
            <a:ext cx="9594720" cy="367344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7716960"/>
            <a:ext cx="9083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sira aqui o conteúdo da sua apresen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05960"/>
            <a:ext cx="9594720" cy="219420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10791720"/>
            <a:ext cx="3851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SIRA O TÍTULO DA SU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