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71802142"/>
        <c:axId val="70502576"/>
        <c:axId val="0"/>
      </c:bar3DChart>
      <c:catAx>
        <c:axId val="71802142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502576"/>
        <c:crosses val="autoZero"/>
        <c:auto val="1"/>
        <c:lblAlgn val="ctr"/>
        <c:lblOffset val="100"/>
        <c:noMultiLvlLbl val="0"/>
      </c:catAx>
      <c:valAx>
        <c:axId val="70502576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802142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238E-376F-45C5-88FF-D1EDB5C61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3E56-27E7-4468-B992-B3FEF29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9EE0-7BEC-412C-8693-A2AF3D7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3285-D979-4CA6-9FDF-26665A086F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47D9-36BE-4EA5-AFED-173228AE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5050-D46C-4DD5-AD40-ABCEEFE9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21AD-9B83-45F1-A9FD-96DDB10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E9A5-4AF2-4A0A-BE34-FB956734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441B-D46C-4BD6-B794-8C17DE0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F24F-72B8-4E85-B178-0B8372F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45BB-BB63-4253-B008-A1E61A1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C906-2FFA-4703-958F-47AE43D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D9E5-42CE-4981-8EA9-62C32556815B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