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6"/>
      <c:rotY val="19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0">
          <a:noFill/>
        </a:ln>
      </c:spPr>
    </c:sideWall>
    <c:backWall>
      <c:spPr>
        <a:noFill/>
        <a:ln w="0">
          <a:noFill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Série 2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érie 3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75"/>
        <c:shape val="box"/>
        <c:axId val="78123388"/>
        <c:axId val="47977797"/>
        <c:axId val="0"/>
      </c:bar3DChart>
      <c:catAx>
        <c:axId val="78123388"/>
        <c:scaling>
          <c:orientation val="minMax"/>
        </c:scaling>
        <c:delete val="0"/>
        <c:axPos val="b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977797"/>
        <c:crosses val="autoZero"/>
        <c:auto val="1"/>
        <c:lblAlgn val="ctr"/>
        <c:lblOffset val="100"/>
        <c:noMultiLvlLbl val="0"/>
      </c:catAx>
      <c:valAx>
        <c:axId val="47977797"/>
        <c:scaling>
          <c:orientation val="minMax"/>
        </c:scaling>
        <c:delete val="0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123388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9360">
      <a:solidFill>
        <a:srgbClr val="878787"/>
      </a:solidFill>
      <a:round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CF9C-B2D1-4DB1-A730-50388E6ECF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253C-14CA-4D25-A219-C66D65B9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D3E6-9B6B-4E91-94D9-2FFED3A8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34038-1EF4-4114-9B9B-062E43FDE7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2A6B3-0C7D-4DAD-BF1F-C637DC8C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FDFA-2FAA-475D-B9FC-95DF59D4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8BCF-FDC4-4B87-950D-30B2ADAA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C648-DE07-4F29-972E-E80AC44B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F3389-2613-486F-8B8F-B8320C48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2230-61F5-46EB-8988-4E1F5F0B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91895-0031-4B33-AB61-9DEC437B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40245-6FEC-4686-988B-A9CA8C18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7C8D8-0A0B-47FF-9693-809A331FAF0B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.carvalho@ufrj.com.br" TargetMode="External"/><Relationship Id="rId2" Type="http://schemas.openxmlformats.org/officeDocument/2006/relationships/hyperlink" Target="mailto:r.santos@ufrj.com.br" TargetMode="External"/><Relationship Id="rId3" Type="http://schemas.openxmlformats.org/officeDocument/2006/relationships/image" Target="../media/image2.png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83720" y="1638360"/>
            <a:ext cx="3759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503360"/>
            <a:ext cx="42958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pres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In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4672080"/>
            <a:ext cx="8977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21320" y="7192800"/>
            <a:ext cx="38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 SEREM DISCUT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EM TÓPIC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04440"/>
            <a:ext cx="5303880" cy="229572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2240" y="1063944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1360" y="7145280"/>
            <a:ext cx="37591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13320" y="241200"/>
            <a:ext cx="472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TÍTUL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430280"/>
            <a:ext cx="429588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João Carvalho 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1"/>
              </a:rPr>
              <a:t>j.carvalho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21) 9499-7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Rosana Santos</a:t>
            </a:r>
            <a:br>
              <a:rPr sz="2000"/>
            </a:b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2"/>
              </a:rPr>
              <a:t>r.santos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dade Federal do Rio de Jan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4964040"/>
            <a:ext cx="897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Verdana"/>
              </a:rPr>
              <a:t>O envelhecimento é um processo natural do organismo, sendo este progressivo e não reversível. Durante este processo ocorrem alterações em todas as partes do organismo e estas devem ser acompanhadas para que sejam evitados danos à saú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4960" y="6977160"/>
            <a:ext cx="385128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Uma das alterações deste processo é o aumento da massa gorda e diminuição da massa muscular (água, tecido ósseo e tecido muscular). Esta alteração é resultado de uma série de fatores como: diminuição de atividade física, hábitos alimentares inadequados, diminuição da água corporal, entre outros fa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É comum alteração no paladar, devido à diminuição das papilas gustativas que permitem sentir os sabores (doce, amargo, ácido e amargo). Além disso, pode ocorrer alteração na dentição que em praticamente todos a mastigação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alimentação deve ser variada e adaptada a esta fase, para realçar o sabor dos alimentos e torná-los mais fáceis de serem mastigados e deglutidos, mantendo o equilíbrio na oferta de nutrientes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s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lipídios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gorduras), possuem um papel importante já que auxiliam na absorção de vitaminas lipossolúveis. Gorduras chamadas poliinsaturadas e monoinsaturadas, nas quantidades adequadas, devem compor parte da alimentação já que auxiliam na prevenção de doenças cardiovascul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369520"/>
            <a:ext cx="5303880" cy="143208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1150452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Observ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LIMENTAÇÃO SAUDÁVEL NA TERCEIRA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240" y="1276200"/>
            <a:ext cx="491652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0" y="6688080"/>
          <a:ext cx="5292720" cy="446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66" name=""/>
          <p:cNvSpPr/>
          <p:nvPr/>
        </p:nvSpPr>
        <p:spPr>
          <a:xfrm>
            <a:off x="263520" y="11855520"/>
            <a:ext cx="48960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companhamento nutricional torna-se necessário para identificar erros e deficiências alimentares a tempo de corrigi-las sem causar danos à saúd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