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F1BC-F42A-439A-BEED-868DD1599D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DD178-CE97-4A2B-8DE4-D63C94D2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C6556-8BE7-4BF8-842A-8CB9AA5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4A9C-7A05-4031-933D-66EF9BB129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F8A2-D5B4-414B-9247-A694F700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62CC-F15B-465E-9E6E-E6F4D32F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7F558-4A27-435F-98D7-35F92ADE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92F5-5CC8-443B-8210-9A8BD9DF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3AB9-E299-470E-964C-717E7E5B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A423F-2530-4159-A92E-2F037547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EB3B7-6BC4-4928-82DC-D6A85643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2344-C1AD-47C0-A258-6D7D712D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111B4-05C2-4FC8-A000-FF1C5F2BBEE3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960120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7280" y="1503360"/>
            <a:ext cx="4295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o autor 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a Institu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664080"/>
            <a:ext cx="9601200" cy="324000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4672080"/>
            <a:ext cx="8977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trodução do tema da su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932520"/>
            <a:ext cx="9594720" cy="367344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7716960"/>
            <a:ext cx="9083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sira aqui o conteúdo da sua apresen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05960"/>
            <a:ext cx="9594720" cy="219420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10791720"/>
            <a:ext cx="3851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SIRA O TÍTULO DA SU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