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80979095"/>
        <c:axId val="90776723"/>
        <c:axId val="0"/>
      </c:bar3DChart>
      <c:catAx>
        <c:axId val="80979095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776723"/>
        <c:crosses val="autoZero"/>
        <c:auto val="1"/>
        <c:lblAlgn val="ctr"/>
        <c:lblOffset val="100"/>
        <c:noMultiLvlLbl val="0"/>
      </c:catAx>
      <c:valAx>
        <c:axId val="90776723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979095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5615-A4DF-49F7-83BA-2A92136AD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F622-908E-4139-92F7-C469391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614F-81C9-4F13-8543-91CD99B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E132-C9FB-4AC2-82FC-2E9560065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184B-B446-4E7A-9D4E-B966D045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8880-20ED-499D-B3DE-121AD8A9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EAC9-BD3F-4AB9-816A-0CE615FD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C395-D3C6-4BA2-A35E-F2DE6837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25EA-D9B0-4190-8E02-F727A05B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4BA6-D3BE-4139-BAC9-A6809A6F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B18F-0030-4290-96B9-120779A1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1619-6F49-4F88-9738-A0FD100C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22328-C146-4005-8FD0-C0702C473A44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