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969DC-CF2A-4F57-8D96-CA2584DF13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E9D06-A09A-4942-821E-53CDE07C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23699-FEBD-41CE-AEFF-07584316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984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088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16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984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088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0D92A-42A0-4395-B435-D12CF9FE82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2655E-2E95-489E-8578-27570181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7610D-AB16-451C-A0D3-C0C1F6C6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124BB-BF1F-45FC-B645-1D542434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26027-3A9B-4E15-B97E-91B94C866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0720" y="3976560"/>
            <a:ext cx="8159760" cy="1271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9F7A3-A95C-4CDD-8DCD-7CF4634DF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27D44-2FA2-46CC-9221-E5749C56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D24DD-797C-4FAE-A6BA-BB800784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19F5D-8F12-40BF-BB48-71CA1F41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1276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809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18/04/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9600" y="11864880"/>
            <a:ext cx="30402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8817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B01FD-0585-4765-9945-6F7E8B50C49B}" type="slidenum"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87360"/>
            <a:ext cx="9601200" cy="309564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7280" y="1503360"/>
            <a:ext cx="42958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Nome do autor (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Nome da Institui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Cont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664080"/>
            <a:ext cx="9601200" cy="3240000"/>
          </a:xfrm>
          <a:prstGeom prst="rect">
            <a:avLst/>
          </a:prstGeom>
          <a:solidFill>
            <a:srgbClr val="d2e5b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4672080"/>
            <a:ext cx="89773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Introdução do tema da sua apresen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932520"/>
            <a:ext cx="9594720" cy="3673440"/>
          </a:xfrm>
          <a:prstGeom prst="rect">
            <a:avLst/>
          </a:prstGeom>
          <a:solidFill>
            <a:srgbClr val="bbd1c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7280" y="7716960"/>
            <a:ext cx="90838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Insira aqui o conteúdo da sua apresent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0605960"/>
            <a:ext cx="9594720" cy="219420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0600" y="10791720"/>
            <a:ext cx="38512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Considera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13320" y="241200"/>
            <a:ext cx="47275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INSIRA O TÍTULO DA SUA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