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26424429"/>
        <c:axId val="25188723"/>
        <c:axId val="0"/>
      </c:bar3DChart>
      <c:catAx>
        <c:axId val="26424429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188723"/>
        <c:crosses val="autoZero"/>
        <c:auto val="1"/>
        <c:lblAlgn val="ctr"/>
        <c:lblOffset val="100"/>
        <c:noMultiLvlLbl val="0"/>
      </c:catAx>
      <c:valAx>
        <c:axId val="25188723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424429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7423-E75E-417F-8D16-CA082B3E4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7C34-D263-49EA-9C3B-448DB2B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3C1B-5CA6-4529-87BD-49D35CC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C6D9-8BBA-4772-92DF-CD720C7AC2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D2A3-C2C6-4111-824A-0C31AF21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5029-51B8-49B5-8A8B-2EA4369F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E6E8-DAAF-46DC-816A-E1E181C1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03D1-4228-44BE-9253-9D67BD81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5B18-8CD2-4F6F-B4CF-63F6469B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13A43-89B5-4305-9D2C-8AFA9F9A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62F4-7C7F-4B42-AA34-38E78E9C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42BF-ED7B-4C82-A3D5-3F04846A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F4A15-280C-45FB-BA2A-1451AFF56A03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