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73838451"/>
        <c:axId val="30146365"/>
        <c:axId val="0"/>
      </c:bar3DChart>
      <c:catAx>
        <c:axId val="73838451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146365"/>
        <c:crosses val="autoZero"/>
        <c:auto val="1"/>
        <c:lblAlgn val="ctr"/>
        <c:lblOffset val="100"/>
        <c:noMultiLvlLbl val="0"/>
      </c:catAx>
      <c:valAx>
        <c:axId val="30146365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838451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3C14-25AB-4228-A35F-0D966F13ED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1FDB-FEEE-48F8-AFB2-592BEF99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8836-F568-405A-8F68-27726872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CDD1-4019-48FB-A80F-FAF8194014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33F4-2F8D-43A2-B7A7-0A8504DB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25DC-CCFF-4B3D-AE19-BF15E5F0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881F-90BB-4B78-8B58-DB4DA6B8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9206-7CC9-4A57-8077-0BDD6BA3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5328-51F3-4B54-9BA6-4A5D8EFB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DCBF-92F3-49EF-940F-039DB828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A010-D94E-4D35-81FE-13093834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C733-6036-45D1-B1D0-D18373BF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8E9B5-E0DB-480A-9BCD-BA18074D5290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